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5FD-F09F-441F-B697-B8D84346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D6C-6C3C-472E-8410-FBC60DB6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3A4-1C56-4C45-9A89-18D58669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399-214F-49EA-9A32-38F1E29B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E7C-8977-45DA-9153-0B5AC701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305-3EDB-42C5-AAC1-F1E2A53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FC2-39A3-46A8-99FF-3C3FE50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1F8-2EE3-47F3-96CA-D6933209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0D3-35FB-4426-A946-1DEDED89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030-8B37-4D53-8FF5-9509BBAD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99D-B07E-495E-A7C8-D941E0D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C80-D58C-4EFA-8682-2EC8DBF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D052-4B42-4672-AAAE-58DB5DFFD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1880" y="1341360"/>
            <a:ext cx="7157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Слава, чест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власт и велич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подобава на Твореца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Цар на всемир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3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1327320"/>
            <a:ext cx="6840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Боже на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царство, величие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правда и мощ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власт и любо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00"/>
                </a:solidFill>
                <a:latin typeface="Arial"/>
                <a:ea typeface="Arial"/>
              </a:rPr>
              <a:t>Твой са престол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040" y="1128600"/>
            <a:ext cx="84286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Славим ний Твоето им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величаем.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На Исус</a:t>
            </a:r>
            <a:r>
              <a:rPr b="1" lang="en-US" sz="47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почи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отдайте всички народи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Само Той Цар на царете е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Пейте Му вий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700" spc="-1" strike="noStrike">
                <a:solidFill>
                  <a:srgbClr val="ffff00"/>
                </a:solidFill>
                <a:latin typeface="Arial"/>
                <a:ea typeface="Arial"/>
              </a:rPr>
              <a:t>хвала във век, Той е велик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8:14:55Z</dcterms:created>
  <dc:creator>TrifonTrifonow</dc:creator>
  <dc:description/>
  <dc:language>en-US</dc:language>
  <cp:lastModifiedBy>TrifonTrifonow</cp:lastModifiedBy>
  <dcterms:modified xsi:type="dcterms:W3CDTF">2005-09-19T08:24:51Z</dcterms:modified>
  <cp:revision>2</cp:revision>
  <dc:subject/>
  <dc:title>Slide 1</dc:title>
</cp:coreProperties>
</file>